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11A3-2209-4D1E-B412-D2B069055B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80C4-8277-48C3-8B5F-39D59313FD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6B5F4-886A-4D0D-BDC5-6A5B3DE35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2AC3E-385C-4181-8DE7-F6EDB510E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D6048-3AFD-4788-961B-796249324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14C6C-6413-41DF-A0D0-AA5123C05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0CD05-2DE8-494C-BA47-DD5459AD6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BFC51-CBC4-4A1F-8A5E-C8E57AE61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61B71-F55B-45E1-AF14-152D23B87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4CBF5-0E27-4475-8856-51E5EDB4F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8B4C7-366F-4B63-8F07-ABDCA7AA1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E94F-A0FA-44FE-9BB5-7E625A19A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BE7D-ABA2-41E5-BB1D-4E09083B5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450FB-98BA-4915-BA9E-76498C1EF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B7AE-B275-4537-8FBC-73FBB5BC080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 TIM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7131 of the Statu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533520" y="533520"/>
            <a:ext cx="3200400" cy="1023840"/>
          </a:xfrm>
          <a:prstGeom prst="rect">
            <a:avLst/>
          </a:prstGeom>
          <a:ln w="0">
            <a:noFill/>
          </a:ln>
        </p:spPr>
      </p:pic>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709A-8F51-459C-AF91-C68A79A81F5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131 (d)</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pt as provided in the preceding subsection of this section</a:t>
            </a:r>
            <a:endParaRPr b="0" lang="en-US" sz="2000" spc="-1" strike="noStrike">
              <a:solidFill>
                <a:srgbClr val="000000"/>
              </a:solidFill>
              <a:latin typeface="Calibri"/>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90000"/>
              </a:lnSpc>
              <a:spcBef>
                <a:spcPts val="4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employee representing an exclusive representative, or</a:t>
            </a:r>
            <a:endParaRPr b="0" lang="en-US" sz="2000" spc="-1" strike="noStrike">
              <a:solidFill>
                <a:srgbClr val="000000"/>
              </a:solidFill>
              <a:latin typeface="Calibri"/>
            </a:endParaRPr>
          </a:p>
          <a:p>
            <a:pPr marL="609480" indent="-609480">
              <a:lnSpc>
                <a:spcPct val="90000"/>
              </a:lnSpc>
              <a:spcBef>
                <a:spcPts val="4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90000"/>
              </a:lnSpc>
              <a:spcBef>
                <a:spcPts val="4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nnection with any other matter covered by this chapter, any employee in an appropriate unit represented by an exclusive representative, </a:t>
            </a:r>
            <a:endParaRPr b="0" lang="en-US" sz="2000" spc="-1" strike="noStrike">
              <a:solidFill>
                <a:srgbClr val="000000"/>
              </a:solidFill>
              <a:latin typeface="Calibri"/>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ll be granted official time in any amount the agency and the exclusive representative involved agree to be reasonable, necessary, and in the public interest.</a:t>
            </a:r>
            <a:endParaRPr b="0" lang="en-US" sz="2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4432-1302-41FF-877B-31E69A53BF6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of 7131 (d)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131 (d) authorizes official time as provided for by contract.  This means that official time under 7131 (d) is a contract right.  Where 7131 (d) official time is at issue, a grievance should be filed for resolution of whether the contract allows the official time.  </a:t>
            </a: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71BB-1CB8-468E-94DE-DD91C4ADD95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7116(a)(1) states that it is a ULP to interfere with or restrain any employee in the exercise rights under Statu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n’t unreasonable denial of official time interference with a union official’s statutory right to represent employees under Section 7114(a)(1)? </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A63A-8C46-4F9E-AF04-C601A772BF3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se that is causing problems in this area of law is </a:t>
            </a:r>
            <a:r>
              <a:rPr b="0" i="1" lang="en-US" sz="3200" spc="-1" strike="noStrike">
                <a:solidFill>
                  <a:srgbClr val="000000"/>
                </a:solidFill>
                <a:latin typeface="Calibri"/>
              </a:rPr>
              <a:t>Dep’t of the Navy, Naval Mine Warfare Engineering Activity, Yorktown, Va.</a:t>
            </a:r>
            <a:r>
              <a:rPr b="0" lang="en-US" sz="3200" spc="-1" strike="noStrike">
                <a:solidFill>
                  <a:srgbClr val="000000"/>
                </a:solidFill>
                <a:latin typeface="Calibri"/>
              </a:rPr>
              <a:t>,  39 FLRA 1207 (1991).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F43F-5FA4-44CB-8408-C7DED6A975B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at case, the Authority reviewed a Union argument that the official time provision in a CBA should not be used by management to impede the union in performing its statutory duties to represent bargaining unit employees.  </a:t>
            </a:r>
            <a:r>
              <a:rPr b="0" i="1" lang="en-US" sz="3200" spc="-1" strike="noStrike">
                <a:solidFill>
                  <a:srgbClr val="000000"/>
                </a:solidFill>
                <a:latin typeface="Calibri"/>
              </a:rPr>
              <a:t>See </a:t>
            </a:r>
            <a:r>
              <a:rPr b="0" lang="en-US" sz="3200" spc="-1" strike="noStrike">
                <a:solidFill>
                  <a:srgbClr val="000000"/>
                </a:solidFill>
                <a:latin typeface="Calibri"/>
              </a:rPr>
              <a:t>39 FLRA at 1213.</a:t>
            </a: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DDF4-DC76-4852-ABA4-9E6864D0372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92" name=""/>
          <p:cNvSpPr txBox="1"/>
          <p:nvPr/>
        </p:nvSpPr>
        <p:spPr>
          <a:xfrm>
            <a:off x="380880" y="152388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uthority rejected that argument:</a:t>
            </a:r>
            <a:endParaRPr b="0" lang="en-US" sz="32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 . we reject the essence of the Union's exception, which is that section 7114 of the Statute entitles an exclusive representative to perform representational activities of the type covered by section 7131(d) on official time.”</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ongress in section 7131(d) committed the determination of the amount of official time to the union and the agency together, not to either party alon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20C3-603B-4E4A-877A-6C9AF814821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95" name=""/>
          <p:cNvSpPr txBox="1"/>
          <p:nvPr/>
        </p:nvSpPr>
        <p:spPr>
          <a:xfrm>
            <a:off x="380880" y="1523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the reasoning in </a:t>
            </a:r>
            <a:r>
              <a:rPr b="0" i="1" lang="en-US" sz="3200" spc="-1" strike="noStrike">
                <a:solidFill>
                  <a:srgbClr val="000000"/>
                </a:solidFill>
                <a:latin typeface="Calibri"/>
              </a:rPr>
              <a:t>Naval Mine Warfare</a:t>
            </a:r>
            <a:r>
              <a:rPr b="0" lang="en-US" sz="3200" spc="-1" strike="noStrike">
                <a:solidFill>
                  <a:srgbClr val="000000"/>
                </a:solidFill>
                <a:latin typeface="Calibri"/>
              </a:rPr>
              <a:t>, failures or refusals to properly apply the official time provisions of a contract by a manger like  are not also violations of the Union’s statutory rights to engage in representational activities such as would give rise to a discrimination or interference ULP.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E266-9348-40B7-8E2B-7674CAC3828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98" name=""/>
          <p:cNvSpPr txBox="1"/>
          <p:nvPr/>
        </p:nvSpPr>
        <p:spPr>
          <a:xfrm>
            <a:off x="380880" y="1523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over, the intermittent refusals of a manager to provide official time in a sufficient amount or  a timely fashion are not considered a repudiation of the contract.   They are breaches which must be remedied though the grievance proces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C861-FD70-4ADD-A7B5-F09555E69CA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540A-0E0D-4B8F-9C26-65D6FE6CC74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diation</a:t>
            </a:r>
            <a:endParaRPr b="0" lang="en-US" sz="4400" spc="-1" strike="noStrike">
              <a:solidFill>
                <a:srgbClr val="000000"/>
              </a:solidFill>
              <a:latin typeface="Calibri"/>
            </a:endParaRPr>
          </a:p>
        </p:txBody>
      </p:sp>
      <p:sp>
        <p:nvSpPr>
          <p:cNvPr id="103"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udiation of a collective bargaining agreement or memorandum of understanding is a ULP</a:t>
            </a:r>
            <a:endParaRPr b="0" lang="en-US" sz="24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000" spc="-1" strike="noStrike">
                <a:solidFill>
                  <a:srgbClr val="000000"/>
                </a:solidFill>
                <a:latin typeface="Times New Roman"/>
              </a:rPr>
              <a:t>Dep't of Def., Warner Robins Air Logistics Ctr., Robins Air Force Base, Ga</a:t>
            </a:r>
            <a:r>
              <a:rPr b="0" lang="en-US" sz="2000" spc="-1" strike="noStrike">
                <a:solidFill>
                  <a:srgbClr val="000000"/>
                </a:solidFill>
                <a:latin typeface="Times New Roman"/>
              </a:rPr>
              <a:t>., 40 FLRA 1211 (1991).</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udiation Te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ature and scope of the alleged breach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s the breach clear and patent?</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ature of the agreement provision allegedly breached</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d the provision go to the heart of the agreement?</a:t>
            </a: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000" spc="-1" strike="noStrike">
                <a:solidFill>
                  <a:srgbClr val="000000"/>
                </a:solidFill>
                <a:latin typeface="Times New Roman"/>
              </a:rPr>
              <a:t>Dep't of the Air Force, 375th Mission Support Squadron, Scott Air Force Base, Ill.,</a:t>
            </a:r>
            <a:r>
              <a:rPr b="0" lang="en-US" sz="2000" spc="-1" strike="noStrike">
                <a:solidFill>
                  <a:srgbClr val="000000"/>
                </a:solidFill>
                <a:latin typeface="Times New Roman"/>
              </a:rPr>
              <a:t> 51 FLRA 858 (1996).</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131 (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employee representing an exclusive representative in the negotiation of a collective bargaining agreement under this chapter shall be authorized official time for such purposes, including attendance at impasse proceeding, during the time the employee otherwise would be in a duty statu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of employees for whom official time is authorized under this subsection shall not exceed the number of individuals designated as representing the agency for such purposes.</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4907-1104-4247-9DB5-0D430E4D0DB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of Section 7131 (a)</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ial Time under section 7131 (a) encompasses all negotiations between an exclusive representative and an agency, regardless of whether such negotiations pertain to the negotiation or renegotiation of a basic collective bargaining agreem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he parties at the level of exclusive recognition have authorized local supplements, section 7131 (a) encompasses official time for the negotiation of the local supplement.</a:t>
            </a:r>
            <a:endParaRPr b="0" lang="en-US" sz="24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C42B-F360-4BEE-B14E-FECDAD06381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Whom Does 7131 (a) Apply?</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ntitlement under 7131 (a) accrues only to an employee who is a </a:t>
            </a:r>
            <a:r>
              <a:rPr b="0" lang="en-US" sz="3200" spc="-1" strike="noStrike" u="sng">
                <a:solidFill>
                  <a:srgbClr val="000000"/>
                </a:solidFill>
                <a:uFillTx/>
                <a:latin typeface="Calibri"/>
              </a:rPr>
              <a:t>member of the bargaining unit</a:t>
            </a:r>
            <a:r>
              <a:rPr b="0" lang="en-US" sz="3200" spc="-1" strike="noStrike">
                <a:solidFill>
                  <a:srgbClr val="000000"/>
                </a:solidFill>
                <a:latin typeface="Calibri"/>
              </a:rPr>
              <a:t> to which the right to negotiate the bargaining agreement applies.  </a:t>
            </a:r>
            <a:r>
              <a:rPr b="0" i="1" lang="en-US" sz="3200" spc="-1" strike="noStrike">
                <a:solidFill>
                  <a:srgbClr val="000000"/>
                </a:solidFill>
                <a:latin typeface="Calibri"/>
              </a:rPr>
              <a:t>U.S. Air Force 2750</a:t>
            </a:r>
            <a:r>
              <a:rPr b="0" i="1" lang="en-US" sz="3200" spc="-1" strike="noStrike" baseline="30000">
                <a:solidFill>
                  <a:srgbClr val="000000"/>
                </a:solidFill>
                <a:latin typeface="Calibri"/>
              </a:rPr>
              <a:t>th</a:t>
            </a:r>
            <a:r>
              <a:rPr b="0" i="1" lang="en-US" sz="3200" spc="-1" strike="noStrike">
                <a:solidFill>
                  <a:srgbClr val="000000"/>
                </a:solidFill>
                <a:latin typeface="Calibri"/>
              </a:rPr>
              <a:t> Air Base Wing Headquarters</a:t>
            </a:r>
            <a:r>
              <a:rPr b="0" lang="en-US" sz="3200" spc="-1" strike="noStrike">
                <a:solidFill>
                  <a:srgbClr val="000000"/>
                </a:solidFill>
                <a:latin typeface="Calibri"/>
              </a:rPr>
              <a:t>, 7 FLRA 738 (1982).</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D5B2-03B6-46F4-9EF1-9A76469EED1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Member of the Bargaining Unit” Defined</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 is NOT the same as Un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union officer is not entitled to official time under 7131 (a) for negotiations on behalf of employees who belong to a unit different from the union officer’s uni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U.S. Naval Space Surveillance Systems, Dahlgren, Va.</a:t>
            </a:r>
            <a:r>
              <a:rPr b="0" lang="en-US" sz="1800" spc="-1" strike="noStrike">
                <a:solidFill>
                  <a:srgbClr val="000000"/>
                </a:solidFill>
                <a:latin typeface="Calibri"/>
              </a:rPr>
              <a:t>, 9 FLRA 193 (1982).</a:t>
            </a:r>
            <a:endParaRPr b="0" lang="en-US" sz="18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2C02-FD58-40D6-8B5E-5F8BCC5AA73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131 (b)</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activities performed by any employee relating to the internal business of a labor organization (including the solicitation of membership, elections of labor organization officials, and collection of dues) shall be performed during the time the employee is in nonduty status.</a:t>
            </a:r>
            <a:endParaRPr b="0" lang="en-US" sz="32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B643-1B30-4C2C-9DEE-8E1BF6C909E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7131 (b) and Internal Union Business</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ternal Union Business” concerns the institutional structure of the union, for 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on business meet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ing for goods and servi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ing bills on behalf of the union;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citation of member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940B-D49F-4738-809E-DD1EEF2C59C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7131 (b) DOES NOT ba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atute does not bar granting official time for representational and contract administration activities.  Some of these activities includ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igation and attempted informal resolution of employee grieva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paration for labor-management conta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ion in formal grievance resolution procedures; a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ing or preparing for meetings of committees on which both the Union and Management are represent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ee generally, U.S. Dep’t of Transp., Fed. Aviation Admin., Washington, D.C.</a:t>
            </a:r>
            <a:r>
              <a:rPr b="0" lang="en-US" sz="1200" spc="-1" strike="noStrike">
                <a:solidFill>
                  <a:srgbClr val="000000"/>
                </a:solidFill>
                <a:latin typeface="Calibri"/>
              </a:rPr>
              <a:t>, 55 FLRA 322 (1999). </a:t>
            </a:r>
            <a:endParaRPr b="0" lang="en-US" sz="1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E53F-EE90-4B99-86D6-2D5B6908636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131 (c)</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 as provided in subsection (a) of this section, the Authority shall determine whether any employee participating for, or on behalf of, a labor organization in any phase of proceedings before the Authority shall be authorized official time for such purpose during the time the employee otherwise would be in a duty statu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1DE5-353A-48A3-AF77-F4680F93F22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20:26:11Z</dcterms:created>
  <dc:creator>lpolk</dc:creator>
  <dc:description/>
  <dc:language>en-US</dc:language>
  <cp:lastModifiedBy>Halverson, Mark</cp:lastModifiedBy>
  <dcterms:modified xsi:type="dcterms:W3CDTF">2014-07-06T16:36:36Z</dcterms:modified>
  <cp:revision>27</cp:revision>
  <dc:subject/>
  <dc:title>OFFICIAL TIME</dc:title>
</cp:coreProperties>
</file>