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6448A-9560-40BF-86DA-FF5A6A450FC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3518C-49BB-4C00-8EA0-AAEB9413F82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05" name="PlaceHolder 1"/>
          <p:cNvSpPr>
            <a:spLocks noGrp="1"/>
          </p:cNvSpPr>
          <p:nvPr>
            <p:ph type="sldImg"/>
          </p:nvPr>
        </p:nvSpPr>
        <p:spPr>
          <a:xfrm>
            <a:off x="1181160" y="696960"/>
            <a:ext cx="4648320" cy="3486240"/>
          </a:xfrm>
          <a:prstGeom prst="rect">
            <a:avLst/>
          </a:prstGeom>
          <a:ln w="0">
            <a:noFill/>
          </a:ln>
        </p:spPr>
      </p:sp>
      <p:sp>
        <p:nvSpPr>
          <p:cNvPr id="10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F6E92-4E06-4AD0-822C-130E0002B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FF622-CE83-4E9F-8668-B1125FBE5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37641-82A7-47A6-B1F6-341CE7910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6C219-B3C1-4C2A-8342-006ABCAC6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10B44-DF7D-4C86-8066-002D35D99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7F7E3-FF46-445F-87C4-646160D5A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1E1A6-E6CA-410F-BF63-17A529158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B9560-FAA3-4812-B807-9BABDD189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FE57F-FB2B-455D-BF20-262DC40F1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ADAF8-B7C4-43DD-86F4-3357F2A06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5ABE9-57AF-4E92-BDF8-C8656B8CD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DC193-0B72-42DF-A23E-49DCE2AB5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AFCD0-640A-4B34-A402-0E13045BA93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ICIAL TIM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tion 7131 of the Statut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
          <p:cNvPicPr/>
          <p:nvPr/>
        </p:nvPicPr>
        <p:blipFill>
          <a:blip r:embed="rId1"/>
          <a:stretch/>
        </p:blipFill>
        <p:spPr>
          <a:xfrm>
            <a:off x="533520" y="533520"/>
            <a:ext cx="3200400" cy="1023840"/>
          </a:xfrm>
          <a:prstGeom prst="rect">
            <a:avLst/>
          </a:prstGeom>
          <a:ln w="0">
            <a:noFill/>
          </a:ln>
        </p:spPr>
      </p:pic>
      <p:sp>
        <p:nvSpPr>
          <p:cNvPr id="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B7593-99AD-4842-96C1-4F2A74367535}"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7131 (d)</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609480" indent="-60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cept as provided in the preceding subsection of this section</a:t>
            </a:r>
            <a:endParaRPr b="0" lang="en-US" sz="2000" spc="-1" strike="noStrike">
              <a:solidFill>
                <a:srgbClr val="000000"/>
              </a:solidFill>
              <a:latin typeface="Calibri"/>
            </a:endParaRPr>
          </a:p>
          <a:p>
            <a:pPr marL="609480" indent="-60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609480">
              <a:lnSpc>
                <a:spcPct val="90000"/>
              </a:lnSpc>
              <a:spcBef>
                <a:spcPts val="4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y employee representing an exclusive representative, or</a:t>
            </a:r>
            <a:endParaRPr b="0" lang="en-US" sz="2000" spc="-1" strike="noStrike">
              <a:solidFill>
                <a:srgbClr val="000000"/>
              </a:solidFill>
              <a:latin typeface="Calibri"/>
            </a:endParaRPr>
          </a:p>
          <a:p>
            <a:pPr marL="609480" indent="-609480">
              <a:lnSpc>
                <a:spcPct val="90000"/>
              </a:lnSpc>
              <a:spcBef>
                <a:spcPts val="4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609480">
              <a:lnSpc>
                <a:spcPct val="90000"/>
              </a:lnSpc>
              <a:spcBef>
                <a:spcPts val="4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connection with any other matter covered by this chapter, any employee in an appropriate unit represented by an exclusive representative, </a:t>
            </a:r>
            <a:endParaRPr b="0" lang="en-US" sz="2000" spc="-1" strike="noStrike">
              <a:solidFill>
                <a:srgbClr val="000000"/>
              </a:solidFill>
              <a:latin typeface="Calibri"/>
            </a:endParaRPr>
          </a:p>
          <a:p>
            <a:pPr marL="609480" indent="-60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60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ll be granted official time in any amount the agency and the exclusive representative involved agree to be reasonable, necessary, and in the public interest.</a:t>
            </a:r>
            <a:endParaRPr b="0" lang="en-US" sz="2000" spc="-1" strike="noStrike">
              <a:solidFill>
                <a:srgbClr val="000000"/>
              </a:solidFill>
              <a:latin typeface="Calibri"/>
            </a:endParaRPr>
          </a:p>
        </p:txBody>
      </p:sp>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E238A-34C9-4CBF-BD6C-84E2749227CD}"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ication of 7131 (d) </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131 (d) authorizes official time as provided for by contract.  This means that official time under 7131 (d) is a contract right.  Where 7131 (d) official time is at issue, a grievance should be filed for resolution of whether the contract allows the official time.  </a:t>
            </a:r>
            <a:endParaRPr b="0" lang="en-US" sz="3200" spc="-1" strike="noStrike">
              <a:solidFill>
                <a:srgbClr val="000000"/>
              </a:solidFill>
              <a:latin typeface="Calibri"/>
            </a:endParaRPr>
          </a:p>
        </p:txBody>
      </p:sp>
      <p:sp>
        <p:nvSpPr>
          <p:cNvPr id="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98EAE-64A0-4C3A-A1C0-A249073585EE}"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enial of Official Time under the Contract is not a ULP</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tion 7116(a)(1) states that it is a ULP to interfere with or restrain any employee in the exercise rights under Statu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n’t unreasonable denial of official time interference with a union official’s statutory right to represent employees under Section 7114(a)(1)? </a:t>
            </a:r>
            <a:endParaRPr b="0" lang="en-US" sz="32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E4951-1F1E-4AC1-94C4-CB240695F18A}"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enial of Official Time under the Contract is not a ULP</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se that is causing problems in this area of law is </a:t>
            </a:r>
            <a:r>
              <a:rPr b="0" i="1" lang="en-US" sz="3200" spc="-1" strike="noStrike">
                <a:solidFill>
                  <a:srgbClr val="000000"/>
                </a:solidFill>
                <a:latin typeface="Calibri"/>
              </a:rPr>
              <a:t>Dep’t of the Navy, Naval Mine Warfare Engineering Activity, Yorktown, Va.</a:t>
            </a:r>
            <a:r>
              <a:rPr b="0" lang="en-US" sz="3200" spc="-1" strike="noStrike">
                <a:solidFill>
                  <a:srgbClr val="000000"/>
                </a:solidFill>
                <a:latin typeface="Calibri"/>
              </a:rPr>
              <a:t>,  39 FLRA 1207 (1991).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9F6C7-4508-4E4D-8CEB-4C2A7015670B}"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enial of Official Time under the Contract is not a ULP</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at case, the Authority reviewed a Union argument that the official time provision in a CBA should not be used by management to impede the union in performing its statutory duties to represent bargaining unit employees.  </a:t>
            </a:r>
            <a:r>
              <a:rPr b="0" i="1" lang="en-US" sz="3200" spc="-1" strike="noStrike">
                <a:solidFill>
                  <a:srgbClr val="000000"/>
                </a:solidFill>
                <a:latin typeface="Calibri"/>
              </a:rPr>
              <a:t>See </a:t>
            </a:r>
            <a:r>
              <a:rPr b="0" lang="en-US" sz="3200" spc="-1" strike="noStrike">
                <a:solidFill>
                  <a:srgbClr val="000000"/>
                </a:solidFill>
                <a:latin typeface="Calibri"/>
              </a:rPr>
              <a:t>39 FLRA at 1213.</a:t>
            </a:r>
            <a:endParaRPr b="0" lang="en-US" sz="32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5EEDE-AF54-464A-AC04-A59480223C0A}"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enial of Official Time under the Contract is not a ULP</a:t>
            </a:r>
            <a:endParaRPr b="0" lang="en-US" sz="4400" spc="-1" strike="noStrike">
              <a:solidFill>
                <a:srgbClr val="000000"/>
              </a:solidFill>
              <a:latin typeface="Calibri"/>
            </a:endParaRPr>
          </a:p>
        </p:txBody>
      </p:sp>
      <p:sp>
        <p:nvSpPr>
          <p:cNvPr id="92" name=""/>
          <p:cNvSpPr txBox="1"/>
          <p:nvPr/>
        </p:nvSpPr>
        <p:spPr>
          <a:xfrm>
            <a:off x="380880" y="152388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uthority rejected that argument:</a:t>
            </a:r>
            <a:endParaRPr b="0" lang="en-US" sz="32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 . . we reject the essence of the Union's exception, which is that section 7114 of the Statute entitles an exclusive representative to perform representational activities of the type covered by section 7131(d) on official time.”</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Congress in section 7131(d) committed the determination of the amount of official time to the union and the agency together, not to either party alone. .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09AC4-5538-49DB-B2C6-98244DEBB6EE}"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enial of Official Time under the Contract is not a ULP</a:t>
            </a:r>
            <a:endParaRPr b="0" lang="en-US" sz="4400" spc="-1" strike="noStrike">
              <a:solidFill>
                <a:srgbClr val="000000"/>
              </a:solidFill>
              <a:latin typeface="Calibri"/>
            </a:endParaRPr>
          </a:p>
        </p:txBody>
      </p:sp>
      <p:sp>
        <p:nvSpPr>
          <p:cNvPr id="95" name=""/>
          <p:cNvSpPr txBox="1"/>
          <p:nvPr/>
        </p:nvSpPr>
        <p:spPr>
          <a:xfrm>
            <a:off x="380880" y="152388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 the reasoning in </a:t>
            </a:r>
            <a:r>
              <a:rPr b="0" i="1" lang="en-US" sz="3200" spc="-1" strike="noStrike">
                <a:solidFill>
                  <a:srgbClr val="000000"/>
                </a:solidFill>
                <a:latin typeface="Calibri"/>
              </a:rPr>
              <a:t>Naval Mine Warfare</a:t>
            </a:r>
            <a:r>
              <a:rPr b="0" lang="en-US" sz="3200" spc="-1" strike="noStrike">
                <a:solidFill>
                  <a:srgbClr val="000000"/>
                </a:solidFill>
                <a:latin typeface="Calibri"/>
              </a:rPr>
              <a:t>, failures or refusals to properly apply the official time provisions of a contract by a manger like  are not also violations of the Union’s statutory rights to engage in representational activities such as would give rise to a discrimination or interference ULP.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C0F17-E4AB-429B-809C-5E9947DE211B}"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enial of Official Time under the Contract is not a ULP</a:t>
            </a:r>
            <a:endParaRPr b="0" lang="en-US" sz="4400" spc="-1" strike="noStrike">
              <a:solidFill>
                <a:srgbClr val="000000"/>
              </a:solidFill>
              <a:latin typeface="Calibri"/>
            </a:endParaRPr>
          </a:p>
        </p:txBody>
      </p:sp>
      <p:sp>
        <p:nvSpPr>
          <p:cNvPr id="98" name=""/>
          <p:cNvSpPr txBox="1"/>
          <p:nvPr/>
        </p:nvSpPr>
        <p:spPr>
          <a:xfrm>
            <a:off x="380880" y="152388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over, the intermittent refusals of a manager to provide official time in a sufficient amount or  a timely fashion are not considered a repudiation of the contract.   They are breaches which must be remedied though the grievance proces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09D0A-242B-423E-ACCD-F1629B798FB7}"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E6BC3-AD05-414B-8A66-D59559C420C0}"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diation</a:t>
            </a:r>
            <a:endParaRPr b="0" lang="en-US" sz="4400" spc="-1" strike="noStrike">
              <a:solidFill>
                <a:srgbClr val="000000"/>
              </a:solidFill>
              <a:latin typeface="Calibri"/>
            </a:endParaRPr>
          </a:p>
        </p:txBody>
      </p:sp>
      <p:sp>
        <p:nvSpPr>
          <p:cNvPr id="103"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udiation of a collective bargaining agreement or memorandum of understanding is a ULP</a:t>
            </a:r>
            <a:endParaRPr b="0" lang="en-US" sz="24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000" spc="-1" strike="noStrike">
                <a:solidFill>
                  <a:srgbClr val="000000"/>
                </a:solidFill>
                <a:latin typeface="Times New Roman"/>
              </a:rPr>
              <a:t>Dep't of Def., Warner Robins Air Logistics Ctr., Robins Air Force Base, Ga</a:t>
            </a:r>
            <a:r>
              <a:rPr b="0" lang="en-US" sz="2000" spc="-1" strike="noStrike">
                <a:solidFill>
                  <a:srgbClr val="000000"/>
                </a:solidFill>
                <a:latin typeface="Times New Roman"/>
              </a:rPr>
              <a:t>., 40 FLRA 1211 (1991).</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udiation Tes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ature and scope of the alleged breach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s the breach clear and patent?</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ature of the agreement provision allegedly breached</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d the provision go to the heart of the agreement?</a:t>
            </a:r>
            <a:endParaRPr b="0" lang="en-US" sz="20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000" spc="-1" strike="noStrike">
                <a:solidFill>
                  <a:srgbClr val="000000"/>
                </a:solidFill>
                <a:latin typeface="Times New Roman"/>
              </a:rPr>
              <a:t>Dep't of the Air Force, 375th Mission Support Squadron, Scott Air Force Base, Ill.,</a:t>
            </a:r>
            <a:r>
              <a:rPr b="0" lang="en-US" sz="2000" spc="-1" strike="noStrike">
                <a:solidFill>
                  <a:srgbClr val="000000"/>
                </a:solidFill>
                <a:latin typeface="Times New Roman"/>
              </a:rPr>
              <a:t> 51 FLRA 858 (1996).</a:t>
            </a:r>
            <a:r>
              <a:rPr b="0" lang="en-US" sz="2400" spc="-1" strike="noStrike">
                <a:solidFill>
                  <a:srgbClr val="000000"/>
                </a:solidFill>
                <a:latin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7131 (a)</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employee representing an exclusive representative in the negotiation of a collective bargaining agreement under this chapter shall be authorized official time for such purposes, including attendance at impasse proceeding, during the time the employee otherwise would be in a duty statu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umber of employees for whom official time is authorized under this subsection shall not exceed the number of individuals designated as representing the agency for such purposes.</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2D816-76AC-4F54-B464-B55421C8B6DC}"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ication of Section 7131 (a)</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ficial Time under section 7131 (a) encompasses all negotiations between an exclusive representative and an agency, regardless of whether such negotiations pertain to the negotiation or renegotiation of a basic collective bargaining agreemen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the parties at the level of exclusive recognition have authorized local supplements, section 7131 (a) encompasses official time for the negotiation of the local supplement.</a:t>
            </a:r>
            <a:endParaRPr b="0" lang="en-US" sz="2400" spc="-1" strike="noStrike">
              <a:solidFill>
                <a:srgbClr val="000000"/>
              </a:solidFill>
              <a:latin typeface="Calibri"/>
            </a:endParaRPr>
          </a:p>
        </p:txBody>
      </p:sp>
      <p:sp>
        <p:nvSpPr>
          <p:cNvPr id="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360BE-1217-497C-BF3A-E9B1CE6D78F4}"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 Whom Does 7131 (a) Apply?</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ntitlement under 7131 (a) accrues only to an employee who is a </a:t>
            </a:r>
            <a:r>
              <a:rPr b="0" lang="en-US" sz="3200" spc="-1" strike="noStrike" u="sng">
                <a:solidFill>
                  <a:srgbClr val="000000"/>
                </a:solidFill>
                <a:uFillTx/>
                <a:latin typeface="Calibri"/>
              </a:rPr>
              <a:t>member of the bargaining unit</a:t>
            </a:r>
            <a:r>
              <a:rPr b="0" lang="en-US" sz="3200" spc="-1" strike="noStrike">
                <a:solidFill>
                  <a:srgbClr val="000000"/>
                </a:solidFill>
                <a:latin typeface="Calibri"/>
              </a:rPr>
              <a:t> to which the right to negotiate the bargaining agreement applies.  </a:t>
            </a:r>
            <a:r>
              <a:rPr b="0" i="1" lang="en-US" sz="3200" spc="-1" strike="noStrike">
                <a:solidFill>
                  <a:srgbClr val="000000"/>
                </a:solidFill>
                <a:latin typeface="Calibri"/>
              </a:rPr>
              <a:t>U.S. Air Force 2750</a:t>
            </a:r>
            <a:r>
              <a:rPr b="0" i="1" lang="en-US" sz="3200" spc="-1" strike="noStrike" baseline="30000">
                <a:solidFill>
                  <a:srgbClr val="000000"/>
                </a:solidFill>
                <a:latin typeface="Calibri"/>
              </a:rPr>
              <a:t>th</a:t>
            </a:r>
            <a:r>
              <a:rPr b="0" i="1" lang="en-US" sz="3200" spc="-1" strike="noStrike">
                <a:solidFill>
                  <a:srgbClr val="000000"/>
                </a:solidFill>
                <a:latin typeface="Calibri"/>
              </a:rPr>
              <a:t> Air Base Wing Headquarters</a:t>
            </a:r>
            <a:r>
              <a:rPr b="0" lang="en-US" sz="3200" spc="-1" strike="noStrike">
                <a:solidFill>
                  <a:srgbClr val="000000"/>
                </a:solidFill>
                <a:latin typeface="Calibri"/>
              </a:rPr>
              <a:t>, 7 FLRA 738 (1982).</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D6578-9E5A-4162-85C7-8370B5B6E36D}"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Member of the Bargaining Unit” Defined</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t is NOT the same as Un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union officer is not entitled to official time under 7131 (a) for negotiations on behalf of employees who belong to a unit different from the union officer’s unit.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U.S. Naval Space Surveillance Systems, Dahlgren, Va.</a:t>
            </a:r>
            <a:r>
              <a:rPr b="0" lang="en-US" sz="1800" spc="-1" strike="noStrike">
                <a:solidFill>
                  <a:srgbClr val="000000"/>
                </a:solidFill>
                <a:latin typeface="Calibri"/>
              </a:rPr>
              <a:t>, 9 FLRA 193 (1982).</a:t>
            </a:r>
            <a:endParaRPr b="0" lang="en-US" sz="1800" spc="-1" strike="noStrike">
              <a:solidFill>
                <a:srgbClr val="000000"/>
              </a:solidFill>
              <a:latin typeface="Calibri"/>
            </a:endParaRPr>
          </a:p>
        </p:txBody>
      </p:sp>
      <p:sp>
        <p:nvSpPr>
          <p:cNvPr id="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9E23F-A555-478E-917D-22768A42AC63}"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7131 (b)</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activities performed by any employee relating to the internal business of a labor organization (including the solicitation of membership, elections of labor organization officials, and collection of dues) shall be performed during the time the employee is in nonduty status.</a:t>
            </a:r>
            <a:endParaRPr b="0" lang="en-US" sz="3200" spc="-1" strike="noStrike">
              <a:solidFill>
                <a:srgbClr val="000000"/>
              </a:solidFill>
              <a:latin typeface="Calibri"/>
            </a:endParaRPr>
          </a:p>
        </p:txBody>
      </p:sp>
      <p:sp>
        <p:nvSpPr>
          <p:cNvPr id="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614C3-D79C-46D6-A651-BBC22D307B80}"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7131 (b) and Internal Union Business</a:t>
            </a: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nternal Union Business” concerns the institutional structure of the union, for examp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on business meeting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acting for goods and servic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ying bills on behalf of the union; a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icitation of membersh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8BB08-0DDA-4E38-8500-BC13CBA13C80}"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7131 (b) DOES NOT bar:</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atute does not bar granting official time for representational and contract administration activities.  Some of these activities includ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igation and attempted informal resolution of employee grievan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paration for labor-management conta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icipation in formal grievance resolution procedures; an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tending or preparing for meetings of committees on which both the Union and Management are represented.</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ee generally, U.S. Dep’t of Transp., Fed. Aviation Admin., Washington, D.C.</a:t>
            </a:r>
            <a:r>
              <a:rPr b="0" lang="en-US" sz="1200" spc="-1" strike="noStrike">
                <a:solidFill>
                  <a:srgbClr val="000000"/>
                </a:solidFill>
                <a:latin typeface="Calibri"/>
              </a:rPr>
              <a:t>, 55 FLRA 322 (1999). </a:t>
            </a:r>
            <a:endParaRPr b="0" lang="en-US" sz="1200" spc="-1" strike="noStrike">
              <a:solidFill>
                <a:srgbClr val="000000"/>
              </a:solidFill>
              <a:latin typeface="Calibri"/>
            </a:endParaRPr>
          </a:p>
        </p:txBody>
      </p:sp>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21632-4AA8-4D5B-9961-2BE9C603CF1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7131 (c)</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ept as provided in subsection (a) of this section, the Authority shall determine whether any employee participating for, or on behalf of, a labor organization in any phase of proceedings before the Authority shall be authorized official time for such purpose during the time the employee otherwise would be in a duty statu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4C31-7B9F-4C1E-8411-20AAEB347F07}"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1T20:26:11Z</dcterms:created>
  <dc:creator>lpolk</dc:creator>
  <dc:description/>
  <dc:language>en-US</dc:language>
  <cp:lastModifiedBy>Halverson, Mark</cp:lastModifiedBy>
  <dcterms:modified xsi:type="dcterms:W3CDTF">2014-07-06T16:36:36Z</dcterms:modified>
  <cp:revision>27</cp:revision>
  <dc:subject/>
  <dc:title>OFFICIAL TIME</dc:title>
</cp:coreProperties>
</file>